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00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1280" y="3978720"/>
            <a:ext cx="79200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560" y="162864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1280" y="397872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560" y="397872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25498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8960" y="1628640"/>
            <a:ext cx="25498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6640" y="1628640"/>
            <a:ext cx="25498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11280" y="3978720"/>
            <a:ext cx="25498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8960" y="3978720"/>
            <a:ext cx="25498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6640" y="3978720"/>
            <a:ext cx="25498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11280" y="1628640"/>
            <a:ext cx="7920000" cy="44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00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38646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560" y="1628640"/>
            <a:ext cx="38646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11280" y="367920"/>
            <a:ext cx="79200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560" y="1628640"/>
            <a:ext cx="38646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11280" y="397872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38646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560" y="162864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560" y="397872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560" y="162864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1280" y="3978720"/>
            <a:ext cx="79200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0" y="6489720"/>
            <a:ext cx="9360000" cy="558720"/>
          </a:xfrm>
          <a:prstGeom prst="roundRect">
            <a:avLst>
              <a:gd name="adj" fmla="val 282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Text Box 2"/>
          <p:cNvSpPr/>
          <p:nvPr/>
        </p:nvSpPr>
        <p:spPr>
          <a:xfrm>
            <a:off x="250920" y="6497640"/>
            <a:ext cx="21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2592360" y="6497640"/>
            <a:ext cx="540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cc99"/>
                </a:solidFill>
                <a:latin typeface="Arial Unicode MS"/>
              </a:rPr>
              <a:t>Click to edit the title text format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11280" y="1628640"/>
            <a:ext cx="79200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13280" indent="-41328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28000" indent="-375480">
              <a:spcBef>
                <a:spcPts val="2750"/>
              </a:spcBef>
              <a:buClr>
                <a:srgbClr val="cc66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243080" indent="-337680">
              <a:spcBef>
                <a:spcPts val="2750"/>
              </a:spcBef>
              <a:buClr>
                <a:srgbClr val="ffcc99"/>
              </a:buClr>
              <a:buFont typeface="Wingdings" charset="2"/>
              <a:buChar char="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95600" indent="-337680">
              <a:spcBef>
                <a:spcPts val="2750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2110320" indent="-299880">
              <a:spcBef>
                <a:spcPts val="2750"/>
              </a:spcBef>
              <a:buClr>
                <a:srgbClr val="ffffff"/>
              </a:buClr>
              <a:buFont typeface="Arial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2110320" indent="-299880">
              <a:spcBef>
                <a:spcPts val="2750"/>
              </a:spcBef>
              <a:buClr>
                <a:srgbClr val="000000"/>
              </a:buClr>
              <a:buFont typeface="Arial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2110320" indent="-299880">
              <a:spcBef>
                <a:spcPts val="2750"/>
              </a:spcBef>
              <a:buClr>
                <a:srgbClr val="000000"/>
              </a:buClr>
              <a:buFont typeface="Arial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7440" y="1821960"/>
            <a:ext cx="812808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Esercitazione 3</a:t>
            </a:r>
            <a:br>
              <a:rPr sz="3200"/>
            </a:b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Mantenimento dello stato, cookies, sessioni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Esercizio 3.1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00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-41760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Provare tutti gli esempi di uso di cookie e di sessione dei  lucidi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Nell’esempio nel contatore delle pagine provare ripetutamente a ricaricare la pagina e verificare l’incremento del coun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Commentare l’istruzione session_start() e verificare il non funzionamento del contator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1280" y="368280"/>
            <a:ext cx="79200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Esercizio 3.2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00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Il riferimento alla pagina PHP che  cambia colore di sfondo in base alla preferenza dall’utente espressa da una form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Usare il metodo HIDDEN per passare il valore scelto dall’utente ad una terza pagina (terza.php) che dovrà anch’essa avere il colore di sfondo scelto. Questa pagina a sua volta sarà collegata ad una quarta pagina (quarta.php) che riceve il colore di sfondo tramite metodo Querystring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Esercizio 3.3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7920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-41760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In relazione all’esercizio 3.1, conservare il colore scelto in una session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Modificare  le pagine terza.php e quarta.php dell’applicazione in modo che visualizzino lo sfondo del colore scelto dall’utente in precedenza, tramite l’uso di sessioni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88960" y="0"/>
            <a:ext cx="79200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Esercizio 3.4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777600"/>
            <a:ext cx="887904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900" spc="-1" strike="noStrike">
                <a:solidFill>
                  <a:srgbClr val="ffffff"/>
                </a:solidFill>
                <a:latin typeface="Arial"/>
                <a:ea typeface="Arial"/>
              </a:rPr>
              <a:t>Riprendere la pagina PHP di gestione della form di registrazione precedente (</a:t>
            </a:r>
            <a:r>
              <a:rPr b="1" i="1" lang="it-IT" sz="1900" spc="-1" strike="noStrike">
                <a:solidFill>
                  <a:srgbClr val="ffffff"/>
                </a:solidFill>
                <a:latin typeface="Arial"/>
                <a:ea typeface="Arial"/>
              </a:rPr>
              <a:t>registrationform.php</a:t>
            </a:r>
            <a:r>
              <a:rPr b="1" lang="it-IT" sz="1900" spc="-1" strike="noStrike">
                <a:solidFill>
                  <a:srgbClr val="ffffff"/>
                </a:solidFill>
                <a:latin typeface="Arial"/>
                <a:ea typeface="Arial"/>
              </a:rPr>
              <a:t>) che riceve i dati inseriti, esegue un controllo sul nick, se risulta vuoto deve restituire un messaggio di errore. Altrimenti lo script prosegue settando un cookie “colore” con il valore del colore inserito. 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900" spc="-1" strike="noStrike">
                <a:solidFill>
                  <a:srgbClr val="ffffff"/>
                </a:solidFill>
                <a:latin typeface="Arial"/>
                <a:ea typeface="Arial"/>
              </a:rPr>
              <a:t>Poi scrive sul browser un messaggio personalizzato del tipo “buongiorno </a:t>
            </a:r>
            <a:r>
              <a:rPr b="1" i="1" lang="it-IT" sz="1900" spc="-1" strike="noStrike">
                <a:solidFill>
                  <a:srgbClr val="ffffff"/>
                </a:solidFill>
                <a:latin typeface="Arial"/>
                <a:ea typeface="Arial"/>
              </a:rPr>
              <a:t>nomeutente” </a:t>
            </a:r>
            <a:r>
              <a:rPr b="1" lang="it-IT" sz="1900" spc="-1" strike="noStrike">
                <a:solidFill>
                  <a:srgbClr val="ffffff"/>
                </a:solidFill>
                <a:latin typeface="Arial"/>
                <a:ea typeface="Arial"/>
              </a:rPr>
              <a:t>i dati da te inseriti sono</a:t>
            </a:r>
            <a:r>
              <a:rPr b="1" i="1" lang="it-IT" sz="1900" spc="-1" strike="noStrike">
                <a:solidFill>
                  <a:srgbClr val="ffffff"/>
                </a:solidFill>
                <a:latin typeface="Arial"/>
                <a:ea typeface="Arial"/>
              </a:rPr>
              <a:t>:” </a:t>
            </a:r>
            <a:r>
              <a:rPr b="1" lang="it-IT" sz="1900" spc="-1" strike="noStrike">
                <a:solidFill>
                  <a:srgbClr val="ffffff"/>
                </a:solidFill>
                <a:latin typeface="Arial"/>
                <a:ea typeface="Arial"/>
              </a:rPr>
              <a:t>e la lista delle preferenze inserite nella form. </a:t>
            </a:r>
            <a:r>
              <a:rPr b="1" i="1" lang="it-IT" sz="1900" spc="-1" strike="noStrike">
                <a:solidFill>
                  <a:srgbClr val="ffffff"/>
                </a:solidFill>
                <a:latin typeface="Arial"/>
                <a:ea typeface="Arial"/>
              </a:rPr>
              <a:t>Nomeutente</a:t>
            </a:r>
            <a:r>
              <a:rPr b="1" lang="it-IT" sz="1900" spc="-1" strike="noStrike">
                <a:solidFill>
                  <a:srgbClr val="ffffff"/>
                </a:solidFill>
                <a:latin typeface="Arial"/>
                <a:ea typeface="Arial"/>
              </a:rPr>
              <a:t> indica il nome inserito dall’utente. 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900" spc="-1" strike="noStrike">
                <a:solidFill>
                  <a:srgbClr val="ffffff"/>
                </a:solidFill>
                <a:latin typeface="Arial"/>
                <a:ea typeface="Arial"/>
              </a:rPr>
              <a:t>Realizzare una nuova pagina </a:t>
            </a:r>
            <a:r>
              <a:rPr b="1" i="1" lang="it-IT" sz="1900" spc="-1" strike="noStrike">
                <a:solidFill>
                  <a:srgbClr val="ffffff"/>
                </a:solidFill>
                <a:latin typeface="Arial"/>
                <a:ea typeface="Arial"/>
              </a:rPr>
              <a:t>provacookie.php</a:t>
            </a:r>
            <a:r>
              <a:rPr b="1" lang="it-IT" sz="1900" spc="-1" strike="noStrike">
                <a:solidFill>
                  <a:srgbClr val="ffffff"/>
                </a:solidFill>
                <a:latin typeface="Arial"/>
                <a:ea typeface="Arial"/>
              </a:rPr>
              <a:t> che legga dal cookie il colore di sfondo preferito e visualizzi la pagina con il colore settato dall’utente. 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2560" y="756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cc99"/>
                </a:solidFill>
                <a:latin typeface="Arial Unicode MS"/>
              </a:rPr>
              <a:t>Esercizio 3.5 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11280" y="1628640"/>
            <a:ext cx="79200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-41760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alizzare una pagina di login utente (riprendendola da esercizi precedenti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 il login e’ corretto la pagina risultante dovra’ conservare il login in una variabile di sessione,  visualizzare una messaggio di login effettuato del tipo ”benvenuto 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nickname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, login effettuato” e prevedere un link ad una pagina per il logout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alizzare la pagina per lo logout che cancelli tutte le variabili di sessione e visualizzi il messaggio “logout effettuato”. Verificare la correttezza del logout visualizzando il login utente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368280"/>
            <a:ext cx="792000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Esercizio 3.6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00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-41760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In relazione all’esercizio precedente, realizzare una ulteriore pagina dell’applicazione  che risulti visibile ai soli utenti registrati.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La pagina dovrà visualizzare la frase “sei autorizzato” se l’utente ha eseguito il login mentre visualizzerà la frase “siamo spiacenti, questa pagina è riservata, si prega di registrarsi” se viene acceduta da un utente che non ha eseguito logi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Sugg: usare opportunamente le variabili di session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2T17:04:32Z</dcterms:created>
  <dc:creator/>
  <dc:description/>
  <dc:language>en-US</dc:language>
  <cp:lastModifiedBy>Chiara Renso</cp:lastModifiedBy>
  <dcterms:modified xsi:type="dcterms:W3CDTF">2010-05-02T17:25:30Z</dcterms:modified>
  <cp:revision>180</cp:revision>
  <dc:subject/>
  <dc:title>Laboratorio di Progettazione Web</dc:title>
</cp:coreProperties>
</file>